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21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2134"/>
                </a:solidFill>
                <a:latin typeface="Arial"/>
              </a:rPr>
              <a:t>&lt;date/time&gt;</a:t>
            </a:r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2134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21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3243-704F-42E8-9F59-8BCCD53DB201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2E1A-3208-4DEB-A3AE-8694DC1C7A61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B16E-B40C-4D73-881A-095BE2753147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CFC0-235F-4D80-9903-C68572318C6D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F11D-3EBF-46DC-AE1F-BBCC115F4F9B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F52A-63A8-41E7-BDB6-ECE5D78B3A23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F2E8-610A-4B79-8CFB-FE72A078D95D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3057-B3FE-4F5B-AAF5-497D8E66F4A2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3D43-8EC9-4287-A035-45EFDCD1F32C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1296-B71F-4B43-9DBD-A50665DF1213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C363-D1DC-4648-80AB-C458DFEA6212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7338-7CE2-4523-9C77-DE8D4532A7D2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7B6A-43BC-42C7-8DFA-B74FB948FA28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6732-FA1E-4222-821C-4CEA31E69C5F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353A-AAEE-4117-A64A-9134D4388474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B2E2-28B3-4D3D-A65F-6DF0D6BDBCF1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2487-C43E-4689-8325-514F49AD8F48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5885-91F8-4045-B5C7-625517797530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C3C1-4C0C-44DB-A2EB-7E59CA3DF98B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BAE2-D581-4797-B08C-1AD97C8576CD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6A9E-00AE-45DF-9324-59BAE8273682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C632-5FB8-4773-9915-8FE72021D0A7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956B-359C-47BE-A516-E8DE0B2C08A0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A830-43A7-43D2-9A1C-72D15E4A8017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9E37-5FBF-418F-B477-C3466270A485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FAEC-1243-442E-B62B-423D9DC5C6C2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F2E6-A738-4DB1-9E4E-99DE01FA49B5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75E1-18E2-48B4-9C1F-8D22F233C716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9D4B-889F-4F30-9394-D43FCE42EDFE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BE16-45F9-46A1-9C41-FCB4EC540094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3E91-0987-44F8-8CF5-2991B2FE2A24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9EB0-EF60-4BE5-B05C-6FA8C1D895F2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49FC-B4A4-4EA4-BA15-F3D64C5A8BE3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9BA5-92D2-4F19-93CD-6945D81689AC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3EDA-3782-433D-BEBE-9522D20743AA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B1ED-5011-4956-A11F-06604A247573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5EBD-F557-42D7-923A-3F1D507DD2D0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292C-D4E8-4A77-9EED-46EC1B7C1FF6}" type="slidenum">
              <a:rPr b="0" lang="en-US" sz="1200" spc="-1" strike="noStrike">
                <a:solidFill>
                  <a:srgbClr val="a32134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B3E-797E-44CD-8559-78E9A6A4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9A7-823C-4D8A-B6CD-987422D9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E11-A1B1-48CC-B333-199F4875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1DB-E8FA-4C7C-AF5A-E14F9AEA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653-5CCA-4E61-A1A4-B6DA6DFC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215-E3FD-4C15-8B03-194CA38B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85F-F05E-4CF5-B945-2696307B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F92-8953-4802-A260-F1CC2F02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63280" y="274320"/>
            <a:ext cx="6985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B81-C510-42E5-8E39-D316F57A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EE6F-281C-48A7-BFC4-C63AAC1F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C22-A619-455B-82FC-615835AD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4BF-E5CD-48FA-9F31-C33DD95E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213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0FE4-6FA5-4416-8FBB-5012F7CD4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a32134"/>
              </a:solidFill>
              <a:latin typeface="Comic Sans MS"/>
            </a:endParaRPr>
          </a:p>
        </p:txBody>
      </p:sp>
      <p:pic>
        <p:nvPicPr>
          <p:cNvPr id="5" name="Picture 7" descr="listic"/>
          <p:cNvPicPr/>
          <p:nvPr/>
        </p:nvPicPr>
        <p:blipFill>
          <a:blip r:embed="rId2"/>
          <a:stretch/>
        </p:blipFill>
        <p:spPr>
          <a:xfrm>
            <a:off x="-6480" y="-14400"/>
            <a:ext cx="1803600" cy="1676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a321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356840"/>
            <a:ext cx="871524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i="1" lang="sr-CS" sz="20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НТЕГРИСАНЕ АКАДЕМСКЕ СТУДИЈЕ МЕДИЦИНЕ</a:t>
            </a:r>
            <a:br>
              <a:rPr sz="2000"/>
            </a:br>
            <a:r>
              <a:rPr b="1" i="1" lang="sr-CS" sz="20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ШТИНА КУМУНИКАЦИЈЕ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пецифичности комуникације са оболелима од болести са неповољном прогнозом </a:t>
            </a:r>
            <a:br>
              <a:rPr sz="2800"/>
            </a:br>
            <a:r>
              <a:rPr b="1" lang="ru-RU" sz="1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ставна јединица 1</a:t>
            </a:r>
            <a:r>
              <a:rPr b="1" lang="sr-RS" sz="1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ф. др Марина Петровић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ако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аопштити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ошу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</a:t>
            </a:r>
            <a:br>
              <a:rPr sz="2800"/>
            </a:b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орални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ски</a:t>
            </a:r>
            <a:r>
              <a:rPr b="1" lang="hr-HR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зазов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7120" y="1428480"/>
            <a:ext cx="4214880" cy="507348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м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ав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ормациј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чијој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ијагноз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гноз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 (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м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ав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к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његов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ељ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бр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ј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в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чланов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м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уду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познат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м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шт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олесник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н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д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чет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аопштавањ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рак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рак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јбољ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четк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питивањ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к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мњ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ход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ак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стира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мп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и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е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познава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воји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ње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к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реди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ир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доб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ез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огућнос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знемиравањ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нцентриш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говорник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ледај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ирн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ч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вентуалн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дир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штитничк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ођа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јатељ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“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н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и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!”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ј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“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ш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прав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ел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зн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тин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”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6200" y="1356840"/>
            <a:ext cx="4214880" cy="50547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олесниц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ичн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памт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т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зговор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јер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знемирен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ј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бр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уд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још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к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исутан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ли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ериј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атких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азговор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“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би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зулта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стов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Чин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и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г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чекива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ел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же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ш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“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шл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ели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к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с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личан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ок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Желе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их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ама да поразговарам 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к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 решим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блем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а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тролишемо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имптоме</a:t>
            </a:r>
            <a:r>
              <a:rPr b="1" lang="hr-HR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“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ез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ажн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д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азговарајм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м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исл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к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т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виј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што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исли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ете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мрети</a:t>
            </a:r>
            <a:r>
              <a:rPr b="0" lang="hr-HR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ABCDE </a:t>
            </a:r>
            <a:r>
              <a:rPr b="1" lang="sr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одел</a:t>
            </a:r>
            <a:r>
              <a:rPr b="1" lang="sr-Latn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е</a:t>
            </a:r>
            <a:r>
              <a:rPr b="1" lang="sr-Latn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0" y="1857240"/>
            <a:ext cx="91440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- Advance preparation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прем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напред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B - Build a therapeutic relationship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споставља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рапеутског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н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C - Communicate well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шће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бр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штин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комуникациј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D - Deal with patient's and family reactions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етман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кциј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кциј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одиц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 - Encourage and validate emotions 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дстицај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 третман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ци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ADVANCE PREPARATION</a:t>
            </a:r>
            <a:br>
              <a:rPr sz="3600"/>
            </a:b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рипрем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унапред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5840" y="1857240"/>
            <a:ext cx="85723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вер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вј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вољн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реме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приватност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ез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пољних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емећај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конструишите релевант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руч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ске информације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гађа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нтално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премите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вју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мислите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 том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ч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е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избегнет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прем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тивн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лож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“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ичн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тљаг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”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43040" y="28548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BUILD A THERAPEUTIC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RELATIONSHIP 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успостављање терапеутског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дн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a)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1714320"/>
            <a:ext cx="8001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длож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суств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чла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одиц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дстав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вим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чесницим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позор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знат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дир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д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кладно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ре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тум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ледећег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станк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COMMUNICATE WELL 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ришћењ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д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р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штин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2560" y="1571760"/>
            <a:ext cx="9001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ћ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ценит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лик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их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оле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крен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бегава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ск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рминологиј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жљив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/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авилн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ч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вј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о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“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рзином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”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звол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ишин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з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дстакните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пише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умевање</a:t>
            </a:r>
            <a:r>
              <a:rPr b="0" lang="vi-VN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гађаја 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ти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мотр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рем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њ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пиш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ж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форма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есуј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ну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лн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д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клад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циљевим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дисциплинар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сурс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8480" y="285840"/>
            <a:ext cx="73198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DEAL WITH PATIENT’S AND</a:t>
            </a:r>
            <a:br>
              <a:rPr sz="2800"/>
            </a:b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FAMILY REACTIONS </a:t>
            </a:r>
            <a:br>
              <a:rPr sz="3200"/>
            </a:b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ретман реакције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ацијента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реакциј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a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родице</a:t>
            </a:r>
            <a:r>
              <a:rPr b="1" lang="pl-PL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sr-Latn-CS" sz="2400" spc="-1" strike="noStrike">
                <a:solidFill>
                  <a:srgbClr val="a32134"/>
                </a:solidFill>
                <a:latin typeface="Arial"/>
              </a:rPr>
              <a:t>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3840" y="1928520"/>
            <a:ext cx="82155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матра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етира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ционалне реакци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одиц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нов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 свакој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е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осећајн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глашавајућ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ртнерски однос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м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мој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ентарисат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ритиковат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лег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NCOURAGE AND VALIDATE</a:t>
            </a:r>
            <a:br>
              <a:rPr sz="2800"/>
            </a:br>
            <a:r>
              <a:rPr b="1" lang="sv-SE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EMOTIONS </a:t>
            </a:r>
            <a:br>
              <a:rPr sz="2800"/>
            </a:b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дстицај</a:t>
            </a: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ретман</a:t>
            </a: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емоције</a:t>
            </a:r>
            <a:r>
              <a:rPr b="1" lang="sv-SE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200" y="1857240"/>
            <a:ext cx="85010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знајт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ч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звол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ражава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ећањ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к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 осећат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ор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с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? ... 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ринит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шим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требам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ите пријемчивиј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треб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кључених запослених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об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5920" y="-429120"/>
            <a:ext cx="7858080" cy="31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а у палијативном збрињавању 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2920" y="1928880"/>
            <a:ext cx="8786880" cy="42861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тина, као и отвореност и искреност у вези са стањем пацијента, су кључ делотворног збрињавања умирућих болесник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творена комуникација не убија над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тоје докази да већина људи жели да зна истину и да се боље носи са ситуацијом ако јој се подршка пружа путем искреног разговора о ситуацији у кој се налаз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да се обавља саосећајно, отворена комуникација пацијенту даје наду и храброст да се суочи и носи са ситуацијом у којој се налаз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9298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        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кација у палијативном збрињавању 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13840" y="1928520"/>
            <a:ext cx="8929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дна од кључних комуникацијских вештина у палијативном збрињавању је препознавање знакова/сигнала које даје пацијент и реаговање на њих, односно омогућавање пацијенту да разговара о питањима која га муч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8440" y="-357480"/>
            <a:ext cx="80010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СКРЕНА ОТВОРЕНА КОМУНИКАЦИЈА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57120" y="2143080"/>
            <a:ext cx="8429760" cy="35006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принос изградњи поверења и емпатиј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мањује неизвесност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маже пацијенту да се носи са сиуацијом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држава реалне над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дставља прилику да се, кроз препознавање сигнала које пацијент даје, разговара о ономе што брине пацијент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маже пацијенту и породици да преузму контролу и да се припреме за смрт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3880" y="1642680"/>
            <a:ext cx="7743960" cy="19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85840" y="1714320"/>
            <a:ext cx="85723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Шта је лоша вес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1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ске</a:t>
            </a:r>
            <a:r>
              <a:rPr b="1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ачке</a:t>
            </a:r>
            <a:r>
              <a:rPr b="1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ледишта</a:t>
            </a:r>
            <a:r>
              <a:rPr b="1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</a:t>
            </a:r>
            <a:r>
              <a:rPr b="0" lang="sv-SE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гативан утиц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вен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њ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 будућнос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тицај лоших вести о искуству себе</a:t>
            </a:r>
            <a:r>
              <a:rPr b="1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“I left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my house on October 2, 1996, as one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person and came home another”. (Lance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rmstrong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ЕЛОТВОРНА КОМУНИКАЦИЈА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2560" y="1857240"/>
            <a:ext cx="871524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Осим вештине комуникације, комуникацију подстиче 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круже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вољно времена на располагањ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ступност здравсвених радник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в здравствених радника о томе да је комуникација  важн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9680" y="-21420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 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РЕПРЕКЕ ДЕЛОТВОРНОЈ  КОМУНИКАЦИЈ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840" y="1428480"/>
            <a:ext cx="8572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аријере професионалац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ах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ће се пацијент узнемири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да ће донети више штете него корис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ровања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е ништа не може урадити у погледу емоционалних питањ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да се разговором о бригама/стрепњама пацијента његова очекивања неоправдано  повећавај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одговарајуће вештине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</a:t>
            </a: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вени радник није сигуран како да се носи са тешком ситуацијом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неспособност процене сазнања пацијент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достатак подршке нпр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</a:t>
            </a: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останак подршке пацијенту уколико се проблеми идентификуј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</a:t>
            </a:r>
            <a:r>
              <a:rPr b="1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останак подршке тим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-786240"/>
            <a:ext cx="857232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РЕПРЕКЕ ДЕЛОТВОРНОЈ  КОМУНИКАЦИЈ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5480" y="1642680"/>
            <a:ext cx="86439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аријере пацијена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трах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</a:t>
            </a:r>
            <a:r>
              <a:rPr b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 признања да нису у стању да се носе са ситуацијом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 тога да ће се њихови најгори страхови обистини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ровања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у здравствени радници презаузе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у њихове бриге неважн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тешкоће нпр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искажу осећањ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да нађу праве реч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сигнали које дају здравственим радницима се игнориш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јчешћ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дијагнозу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алигн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5480" y="1428840"/>
            <a:ext cx="8429400" cy="52164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ци и тип реакције                                 Просечно трај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иод 1 – суочавање са болешћ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верица или негирање ( ја немам рак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грешна дијагноза, грешка у преглед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 " то није мој налаз", "налаз је замењен")                             </a:t>
            </a:r>
            <a:r>
              <a:rPr b="1" lang="sr-C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ЕКОЛИКО ДАН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чајање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кептицизам ( " ја сам готов", " сви с раком умиру"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слагање са новијим методама и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редствима- техникама лечењ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јчешћ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дијагнозу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алигн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642680"/>
            <a:ext cx="8501040" cy="50007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ци и тип реакције                                 Просечно трај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иод 2 – Дисфориј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нксиозност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епресиј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норексиј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дражљивост                                                                    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1 - 2 НЕДЕЉ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саниц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лабљена концентрациј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емећене дневне активнос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јчешћ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дијагнозу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алигн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4200" y="1714680"/>
            <a:ext cx="8501040" cy="457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ци и тип реакције                              Просечно трај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иод 3 – Адаптациј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лагођавање новим информацијама о лечењу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хабилитацији, будућнос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очавање са стварним информацијама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ажење разлога за оптимизам                                   </a:t>
            </a:r>
            <a:r>
              <a:rPr b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ЕСЕЦ ДАНА и виш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налаза нових циљева у животу, послу,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ктивности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ЗАЗОВИ У КОМУНИКАЦИЈИ 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8358120" cy="457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иц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слух са породицом 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шка питањ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нфлик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тивне реак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РИЦАЊЕ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ицање је несвесни ментални процес који служи ко одбрана против анксиозности који изазива спољна  претњ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 је нормална и здрава реакција која постаје патолошка тек када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</a:t>
            </a:r>
            <a:r>
              <a:rPr b="0" i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" искриви"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 потпуно одбаци стварност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кретање пажње је нормално и може помоћ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ицању се морамо супротставити  ако изазива штет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ле порицања обично следе бес, кривица, депресиј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ДРШКА ПАЦИЈЕНТУ КОЈИ НЕ ПРИХВАТА ИСТИНУ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лушајте га и дозволите му да изрази мисли и осећања: прихватите, али не подстичите и не одобравајте порицањ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дстичите наду, али избегавајте давање лажне утех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лушајте га да бисте препознали конкретне бриге, пажљиво га подстакните да Вам каже више о томе што га мучи: направите атмосферу сигурности у којој болна стварност може бити свесно прихваћн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нудите решења за одређене бриге, нпр. </a:t>
            </a:r>
            <a:r>
              <a:rPr b="0" i="1" lang="sr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ако ова болест изазива јак бол, има много начина на које се може помоћи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ко је порицање проблем, покушајте да се благо супроставите нпр., </a:t>
            </a:r>
            <a:r>
              <a:rPr b="0" i="1" lang="sr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 ли икада размишљате о томе да се то можда неће догодити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ажите " пукотину" у  порицању, нпр. </a:t>
            </a:r>
            <a:r>
              <a:rPr b="0" i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згледа као да се питате да ли нешто друго изазив бол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ЕС/ ЉУТЊ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5480" y="1714680"/>
            <a:ext cx="8358120" cy="428616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ес је уобичајена реакција на губитак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 основи беса су осећања беспомоћности и очајничке потраге да се свету да ново значење пошто је претходно измакло контрол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жно је да не покушавате да објашњењем умирите бес када комуницирате са неким ко изражава бес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слушајте и препознајте и прихватите такво испољавањ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питајте разлоге за бес пажљивим слушањем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840" y="1356840"/>
            <a:ext cx="892980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100000"/>
              </a:lnSpc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жина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гативне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и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виси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</a:t>
            </a:r>
            <a:r>
              <a:rPr b="0" lang="it-IT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лике између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чекивањ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ућност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 здравственог</a:t>
            </a:r>
            <a:r>
              <a:rPr b="0" lang="nl-N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ња</a:t>
            </a:r>
            <a:r>
              <a:rPr b="0" lang="nl-N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nl-N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тој</a:t>
            </a:r>
            <a:r>
              <a:rPr b="0" lang="nl-N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итуацији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а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дговор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/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оживљавање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ацијента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тиче психосоциални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текст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:</a:t>
            </a:r>
            <a:br>
              <a:rPr sz="2400"/>
            </a:b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- Дијагноз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ст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илне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П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o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хтев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PCI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т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o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o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дељ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свадб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вој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ћ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к</a:t>
            </a:r>
            <a:r>
              <a:rPr b="0" lang="nb-NO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e</a:t>
            </a:r>
            <a:br>
              <a:rPr sz="2000"/>
            </a:b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- Тремор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хирурга</a:t>
            </a:r>
            <a:endParaRPr b="0" lang="en-US" sz="2000" spc="-1" strike="noStrike">
              <a:solidFill>
                <a:srgbClr val="a32134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АЈНИ ДОГОВОР/ ДОСЛУХ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358120" cy="47862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ајно договарање родбине пацијента је честа појава, али се може срести и код професионалац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ођаци могу да замоле здравственог радника да прикрије информације од пацијент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ажно је запамтити да је оваква врста дослуха често чин љубави или потребе да другог заштитите од бол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ни који инсистирају на дослуху често твдре да пацијента познају боље од здравтвених радника и да знају " шта пацијент може да поднесе"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одбина често сматра да ће се саопштавањем истине пацијенту одузети над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питајте разлоге за прикривање истин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јасните породици пацијента да мора да се изађе у сусрет пацијентових потреба за објашњењем, којим ће се побољшати његово разумевање сопствене ситуациј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во се договорите да приђете пацијенту са циљем да проверите колико он разуме ситуациј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АЈНИ ДОГОВОР/ ДОСЛУХ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480" y="1785960"/>
            <a:ext cx="8358120" cy="4572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ећаје да пацијенту нећете дати ни једну информацијију коју он не затраж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јасните рођацима да када се прихвати реална ситуација нада може да има више смисла и да се заснива на краткорочним достижним информацијам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 онима који желе да прикрију истину разговарајте о емоционалној цени таквог поступка. Нагласите колико је та емоционална цена висока и испитајте са рођацима колико је вероватно да и сам пацијент прећуткује да зна истину и да је свестан истине, односо да сумња и да је спреман да разговара о важним питањим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јасните да искрени разговор омогућава пружање утехе пацијенту у вези са многим питањима која га брину и да му помаже да буде смиренији и планира, односно да  прилагоди своје наде и циљев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рганизујте поновни разговор и отворите могућност да се сусретнете заједно са пацијентом и рођацима ако су и једни и други свесни реалнос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ЕШКА ПИТАЊ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ли има лека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што ја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лико времена ми је преостало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Шта ће се десити након овога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последњих часова живота) 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ли би нека друга терапија помогла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ЕШКА ПИТАЊ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нога од ових питања су реторичка и на њих нема јасних одговор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пак, она дају прилику да се истраже осећања и помажу да се " избаце" највећи страхов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главном се ради о настојању да се ситуацији да неки смисао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СТУПАЊЕ У СЛУЧАЈУ ТЕШКИХ ПИТАЊ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верите зашто је пацијент поставио дато пит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кажите да сте заинтересовани за његове иде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тврдите оно што пацијент говори или елаборирајте нпр 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</a:t>
            </a:r>
            <a:r>
              <a:rPr b="1" i="1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роватно сте у праву ..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удите спремни да признате да нешто незнат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кажите емпатиј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Због чега комуникација </a:t>
            </a:r>
            <a:r>
              <a:rPr b="1" i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" пуца"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 понекад не могу да нађу речи којима би изразили своја осећањ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 не желе да буду терет и боје се да ће </a:t>
            </a:r>
            <a:r>
              <a:rPr b="0" i="1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"пући"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носно да ће им живци попустити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 се стиде да признају да имају проблем са савладавањем сопствене ситуације, или им професионалци делују превише заузето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евени радници се боје да ће код пацијента изазвати душевни бол, штету или бригу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вени радници се не осећају на свом терену и сматрају да емоционална подршка није део њихове професионалне улог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ционални одговор пацијента нас лично погађ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онашање које спречава комуникацију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рано давање савета и утехе, пре него што се уопште идентификује главни проблем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иподаштавање душевног бола као нечег нормалног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фокусирање на физичке аспект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омене тем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спутно " развесељавање" 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2152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ЗАКЉУЧАК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5480" y="1856880"/>
            <a:ext cx="8358120" cy="428652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скрена и отворена комуникација је кључан елемент палијативног збрињавањ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тоје обрасци које можемо користити када се нађемо у тешким ситуацијам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дравствене раднике не треба да буде страх да признају да нешто не знају, или да им је потребна помоћ у одређеној ситуациј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циљ делотворне комуникације је да се од пацијента и чланова његове породице" извуче" шта осећају, о чему размишљају, шта их брине и да им  се пруже одговарајуће повратне информације, подршка и утех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5298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Најважниј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арактеристик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ада саопштават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ош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и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4200" y="2714760"/>
            <a:ext cx="841536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зициј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/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иступ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људ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уницирају лош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асноћа информа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пособност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говори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њ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олова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штин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ћ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ебан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блик комуника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Зашто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је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ешко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цирати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у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лучају лоше</a:t>
            </a: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и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13840" y="2571480"/>
            <a:ext cx="8929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вој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тратрансфера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асупрот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ацијенту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: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рах да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а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вредимо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рах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губитка</a:t>
            </a:r>
            <a:r>
              <a:rPr b="0" lang="it-IT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нтрол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Успех</a:t>
            </a: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тренинга</a:t>
            </a: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омуникацијских</a:t>
            </a: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вештина</a:t>
            </a: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?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штин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носе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утоматски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</a:t>
            </a:r>
            <a:r>
              <a:rPr b="0" lang="pl-PL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чења до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лности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уницирају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им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Филозофско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итањ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штин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муникације с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понтан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уч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ком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удиј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слу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?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Кој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уч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785880"/>
            <a:ext cx="9144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Зашто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је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тешко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комуницирати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у</a:t>
            </a:r>
            <a:r>
              <a:rPr b="1" lang="pl-PL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случају лоше</a:t>
            </a:r>
            <a:r>
              <a:rPr b="1" lang="sr-Latn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и</a:t>
            </a:r>
            <a:endParaRPr b="0" lang="en-US" sz="28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13840" y="2571480"/>
            <a:ext cx="8929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ацијент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лекар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мају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ругачије</a:t>
            </a:r>
            <a:r>
              <a:rPr b="0" lang="pl-PL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рспективе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: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арем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елимично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да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pt-B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бру вест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екар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ор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представи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е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чињениц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звештавањ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"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збилних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лоших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с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звештавањ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ести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ацијент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зуме</a:t>
            </a:r>
            <a:r>
              <a:rPr b="0" lang="sr-Latn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ао лош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ило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хронична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т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кључујући неугрожавајућу</a:t>
            </a:r>
            <a:r>
              <a:rPr b="0" lang="sr-Latn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Бег</a:t>
            </a:r>
            <a:endParaRPr b="0" lang="en-US" sz="32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38480" cy="398952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Како</a:t>
            </a:r>
            <a:r>
              <a:rPr b="1" lang="hr-HR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бежимо</a:t>
            </a:r>
            <a:r>
              <a:rPr b="1" lang="hr-HR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Физичк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бегавањ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луша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рист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ск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аргон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ран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језик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!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легам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ред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ом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нтервју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смерен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екар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есник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творен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итањ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дговор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азговор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“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иси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”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920" y="1571400"/>
            <a:ext cx="4038480" cy="421452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Зашто</a:t>
            </a:r>
            <a:r>
              <a:rPr b="1" lang="hr-HR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бежимо</a:t>
            </a:r>
            <a:r>
              <a:rPr b="1" lang="hr-HR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на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ак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саопт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у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ора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урадимо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призна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вој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успех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дицин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узрокујемо 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л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његов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реакциј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ошу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ст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пад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 покаже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ећаје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Бојим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з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б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о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ма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годи</a:t>
            </a:r>
            <a:r>
              <a:rPr b="0" lang="hr-HR" sz="20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29840" y="6064200"/>
            <a:ext cx="14061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a32134"/>
                </a:solidFill>
                <a:latin typeface="Comic Sans MS"/>
              </a:rPr>
              <a:t>Prof. E. Klain</a:t>
            </a:r>
            <a:endParaRPr b="1" i="1" lang="en-US" sz="1600" spc="-1" strike="noStrike">
              <a:solidFill>
                <a:srgbClr val="a32134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560" y="1285920"/>
            <a:ext cx="9001080" cy="31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Психолошк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,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физичк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менталн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,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егзистенцијални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аспект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лоше</a:t>
            </a:r>
            <a:r>
              <a:rPr b="1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вести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Осећај</a:t>
            </a:r>
            <a:r>
              <a:rPr b="0" lang="pt-BR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r>
              <a:rPr b="0" lang="pt-BR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а</a:t>
            </a:r>
            <a:r>
              <a:rPr b="0" lang="pt-BR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ема</a:t>
            </a:r>
            <a:r>
              <a:rPr b="0" lang="pt-BR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аде</a:t>
            </a:r>
            <a:br>
              <a:rPr sz="2400"/>
            </a:b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Вероватн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тицај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н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физичк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ли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мент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лно</a:t>
            </a:r>
            <a:r>
              <a:rPr b="0" lang="pl-PL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та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br>
              <a:rPr sz="2400"/>
            </a:b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ужавање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избора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животу</a:t>
            </a:r>
            <a:r>
              <a:rPr b="0" lang="sr-Latn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ацијента</a:t>
            </a:r>
            <a:endParaRPr b="0" lang="en-US" sz="2400" spc="-1" strike="noStrike">
              <a:solidFill>
                <a:srgbClr val="a32134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6840" y="-214560"/>
            <a:ext cx="745812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a32134"/>
                </a:solidFill>
                <a:latin typeface="Times New Roman"/>
                <a:ea typeface="Times New Roman"/>
              </a:rPr>
              <a:t>Изазови у комуникацији</a:t>
            </a:r>
            <a:endParaRPr b="0" lang="en-US" sz="3200" spc="-1" strike="noStrike">
              <a:solidFill>
                <a:srgbClr val="a3213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85480" y="2214360"/>
            <a:ext cx="8001000" cy="342900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саопштавање лоших вести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порицањ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дослух са породицом пацијент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тешка питања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конфлик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емотивне ракције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07:18:45Z</dcterms:created>
  <dc:creator>Nebojša</dc:creator>
  <dc:description/>
  <dc:language>en-US</dc:language>
  <cp:lastModifiedBy>Milanče Sin</cp:lastModifiedBy>
  <dcterms:modified xsi:type="dcterms:W3CDTF">2023-02-03T22:54:54Z</dcterms:modified>
  <cp:revision>117</cp:revision>
  <dc:subject/>
  <dc:title>Slide 1</dc:title>
</cp:coreProperties>
</file>